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2E4-35CC-4A74-BCB5-7EF4121F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082-3A29-46C9-9486-9400F8E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CA2-DD0C-483D-B287-361C4FDA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D66-A201-4FBD-A432-4601E9E0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0CA-0986-4C0F-B49D-6BA18F21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A8D-5D79-4F45-8904-B7820311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563-F893-4850-BBD0-F5F7A26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4A5-17D5-4A30-A022-BE6A68E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389-B63B-4FC2-BC85-5326E89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534-299C-4EE8-BB7E-153F4D8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E41-689F-43EB-BB6D-6BC42B0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3E9-80D3-48C4-B011-29A0DDF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9D7-F4F4-4AC0-B317-DB6D3319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: answer the following questions in your 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rrect chem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barium 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copper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at are the differences between physical and chemical changes? Giv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Emily's HD:Users:emilyhall:Downloads:Hindenburg Explodes! Scores Dead - Special Release 1937_05_10 [www.keepvid.com].mp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dium hydroxide + hydrogen chloride form water and sodium chlor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lcium + Oxygen form calcium ox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-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-&gt;    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rmula equation and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chloride reacts with sulfuric acid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produce sodium sulfate and hydrochloric acid (H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3:19:59Z</dcterms:created>
  <dc:creator>Emily Hall</dc:creator>
  <dc:description/>
  <dc:language>en-US</dc:language>
  <cp:lastModifiedBy>Emily Hall</cp:lastModifiedBy>
  <dcterms:modified xsi:type="dcterms:W3CDTF">2010-11-17T05:30:22Z</dcterms:modified>
  <cp:revision>7</cp:revision>
  <dc:subject/>
  <dc:title>DO NOW: answer the following questions in your notebook</dc:title>
</cp:coreProperties>
</file>